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B31C-3429-480D-A391-F3DAAB19E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7D28-4783-4DE5-81A8-18805E9D3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9E94-3F90-4D5D-8ACA-E72EC458D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1412-C231-4F18-907C-7FEE262095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31AF-C59A-40F0-B10D-6AA0F0F074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4CCB-EB42-4020-B170-9148D4820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0A7E-82C6-4694-93A2-4EF2E3AF5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0863-B838-4CB8-9DDB-B58F46F43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8E6A-43A5-4BB4-9880-479648B61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F535-B381-4E45-8B88-8A0C3ACDE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30E9-4399-4B6A-AFED-E9F671E33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113C-A73A-41E6-83A0-757781C69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00E2-45F3-4D3D-87B0-CB714B6A32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90A6-B556-4857-9139-7A8B4BF161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 – August 1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 Work with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focus on understanding the multiplicative relations to compare and predict as well as unitizing concepts in 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consider guidelines when providing effective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explore the importance of effective feedback on student achie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BE73-6C66-42B1-A905-7043F32707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997D-F676-4BC9-A74F-20C81089E8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pping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: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 Proble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Cookie Problem 7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 boxes of cookies cost $10.  How much should18 boxes c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Keepin’ Ta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9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 student council collects aluminum pop tabs to raise money to purchase a wheelchair.  A company buys the pop tabs for $0.88 per kil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1267 pop tabs have a mass of one pound, how many pop tabs are needed to purchase a wheelchair worth $15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how your 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nt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 kilogram = 2.2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different samples and compare students’ algebraic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eedback using the mathematical processes as your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other tables to examine the type of feedback provi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athematical process was the le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similarities to the feedback you provi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the studen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providing feedback what was discussed at your 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 decide on the criteria you were going to use to give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 me an example of feedback provided that you feel is very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1 change you will make when providing feedback to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the importance of developing guidelines for providing effective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how effective feedback impacts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CDSB</cp:lastModifiedBy>
  <dcterms:modified xsi:type="dcterms:W3CDTF">2011-08-04T13:30:31Z</dcterms:modified>
  <cp:revision>5</cp:revision>
  <dc:subject/>
  <dc:title>&lt;Title&gt;</dc:title>
</cp:coreProperties>
</file>